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B66-9AA0-4CC6-9C84-7800C7B2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196-BCDE-4583-BA7B-0643B713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B580-C280-4C6C-8AAF-79BB034E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D6DD3-6C75-4409-853C-9EB6A449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45587-09CC-4E10-9A19-B28E1D0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C467F-F0A4-479E-94CE-6C769DE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BAFDC-A3C9-4A41-A4B0-7F6B1AE8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A8200-9A04-47BA-A473-D1F6B500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2E426-F75D-4AE4-BBCA-2AAC4466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4A14E-0480-405B-9343-2F932D13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94985-3D29-48A5-A9C7-E0C1AA49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FC98C-5165-4291-9DDC-FC5D8889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D32-6ACD-4144-99AA-D4ED6A5C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F5C25-95A9-40B0-8C3D-59314653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157FB-698B-421C-B8BB-A104DEB3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F365F-304D-462F-A819-AE67D400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C5A55-A1C6-4FA9-8783-2165D434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1783B-F691-4DEB-A156-88C19A8D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A0994-8B07-40C0-AEF0-8EB0AC52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4991E-E747-41A7-A986-6A7E4D2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0CAC2-E002-456D-BE7F-D041AF8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04630-12CB-4502-9ACB-ECEC5F1C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96253-6F87-4FAC-8958-92D7F942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775-9A96-4CDE-924C-5B862DDD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15AB9-2602-4F64-BD4F-BB8DF37B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D4446-0899-4B23-8817-36D154F5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A7D2A-C51C-424F-90AF-A330BBD5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05B1D-ED48-45AB-A3E1-E7EF1EA1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50587-BC6E-4154-BCDC-751C5CB4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F25D3-1F6D-43EA-A86E-CFBACC2B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564A8-5B4F-4B44-8736-0A997D1A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90F19-3E0D-49FF-9657-ADC3714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9A296-D847-48F8-883D-A2FA31C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3115A-762E-40C3-815B-17B1E50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CAE0-98A3-444B-8974-AF3E1C59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6198D-7EAF-4A89-8D1C-054A69AE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9B94D-94F8-49E4-9F56-86C0ADB3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F2756-D43C-4A7D-8CC2-BCA2AE26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BF3C6-83B5-4CBC-9A6C-DCF57D44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08AB9-1567-464F-BF1D-E07B7B30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996A0-079B-430F-A612-FBECAC7B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9A700-D269-4A26-A746-AB43F6FB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19BF1-74FF-43AC-A364-B53E9A6B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9246F-BAF1-457B-9842-EB5E6231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D8CD8-E57E-4891-A4AE-762C87C0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E51E-9B54-41F3-8747-2E5F3D87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B83B4-F189-4337-89D8-00342C5C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44328-5FB6-4AD0-8CCC-652EA890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311BA-DF34-41A2-8CF4-DAAE5C1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C95F9-DC1E-4232-9ECA-90DE8479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F6158-7AA3-4D81-BEDE-6F6F4E10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13F3C-EA40-4E6B-AA58-895C5FD9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24F05-C69B-47EF-822A-EBA61915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12392-F404-4FEC-AAB5-4E27E157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CEDA6-160E-4AA2-8404-51DC9BFC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4EF15-3A4C-43BF-A367-34767B6A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47C5-1541-4139-B6AC-676565B8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339D5-BB3F-4743-9789-BC082FD4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37551-5C95-4EBF-B34F-06B270B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CBB38-FCE4-44FF-A093-8CAE995C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685BC-35FC-4F6F-A0F3-743507F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0B9A2-01A1-45B2-8E8B-5C826F59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26C3B-A281-4CA9-B7CC-83F7F5DE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11D86-61A7-48EF-9FB3-049A0E6F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2209A-9827-4204-93D9-BAFE5E1F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192E1-2963-4773-99FD-50452202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F0AE3-AC6D-429E-86FE-D74A2397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28EA-BAB8-443D-AAB7-E9CE9C0A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F6D95-0781-4406-ACA1-F4159751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BE82C-E720-45F6-AD56-708BB183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667C7-9C7A-4F17-A3C2-6D3D8EB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3CC34-177D-47FA-8A5C-051E6DE2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54810-7A8A-4052-B35C-DAFC3447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CCE04-8D67-4E6F-82F3-36ABDEB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1D6DC-EB2C-44C1-839E-A1B29A0E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1BB8F-118E-4FE8-AA72-89E04BC1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7312A-4FDE-4B8B-99E1-55D3AD36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24BE2-D3EA-4788-B6DC-E49FF9E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E7D7-FCFF-47C6-B6A2-348F071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32264-17A6-4884-9234-40CA3FE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1DEB7-ED68-433D-8FE4-5EF85D2F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8C9D4-9DD4-4695-ACBC-B1CA3BF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2C84C-BCF4-48E9-A196-0FAFAA42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B2B6A-3BE3-4D06-9C48-0E4236B5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DC267-1BEE-40AB-B793-F216EBB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40334-6119-44C6-85B8-BACF204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D23C3-B55D-4E62-9B99-B88D8E4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DAB6B-9314-4166-B987-A0301363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76A34-0281-41B7-81C0-DA9BD67C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E650-3913-48F0-9844-686BEDFB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C74DC-C8A8-4956-86FF-DBAD2F1C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B798E-01C1-4F4F-83B5-95646F3A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1FBDC-6423-4B99-BFF9-6D041A5B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720BC-E9BF-4EBC-AEE6-99CEDC2E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7B65E5-54BB-488B-BEDF-2A7F852E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0E260-DD07-4E0E-8DA6-1EB00D33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A2C53-BADB-496F-8352-3F103A11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9863F4-FDEC-4C84-9E46-7A47744C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EAEBB-9E9D-432E-9A45-51E1BC6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FC2DA-7A89-4811-B59C-5AB2B825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A860-D5C4-4C29-B846-BE0DF7A6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44872-C6B4-4943-872E-3F6F881C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26ED6-A788-49F6-A24C-06E72AE1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99F80-5285-4C25-B435-040B53D3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92140-603D-4F19-B792-1364A7A5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70629-11EB-4917-89B7-CB8176AA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6BA40-AB13-4E40-BF11-8FC4505E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6FE67-A59B-477D-82BF-C9223F5D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08C06-8665-4AC8-B227-69AF13E8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AD520-010E-47F0-8394-12E284A0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F0E7A-5E9B-4F33-8BA6-2B789D7E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59E-3BF5-4DFE-9C63-287EC7ED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F98B-EAFC-4AA9-816F-802F3F5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15070-F199-403A-AFCE-B0EC60C9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0B81C-ED11-4DF4-A90F-A1C2B1B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A696B-EC55-4DCC-9A0F-2B5465B9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8631F-5F61-4F2F-8A8A-0B8ACCC9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7D48C-9274-4674-9498-69ED90FA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FFE49-38F3-409C-AA12-3B3D3946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AF84F-5235-45CA-ADCB-6FB07634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38B82-B868-4752-A614-B9D71992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E7AE5-F47C-4CCB-BC24-7F869E87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81078-873B-4824-A341-16137771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03FB-E1E8-4FE8-BF34-E5AF79FF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786A7-D7E6-4FA1-8BFA-5FA9F1A8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52EAC-24DE-4A2F-B5AC-3C3F3122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9D66A-4077-4285-B310-3F13A0A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02609-D10C-4B60-AAE9-7004B8B4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CF182-F886-4B2F-A843-10B4BA4B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096FF-8B52-40E3-959D-CB080AD9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2A85D-EEB3-4632-8FE0-BE39BC6D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4B260-E0C6-42C2-8384-00508ABE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0635B-93C6-404F-BB47-8F640163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AE6C1-CA1D-42E3-8653-7E072065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121C-4639-4944-8FEB-2F94320F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73066E-AAF5-4A7F-BA96-73821953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964CD-F542-42EC-8A19-227A2EFD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C05EF-A0DB-4500-AF6C-1952A3F9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16171-46EF-4048-BE04-FFFA0020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673E1-F5E0-45CC-B750-5DDA134A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1200F-6493-4936-B493-1BE26E17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2878C-5861-470D-A029-C0AC0F66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1ED53-09BE-4965-800B-0C3CC9ED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9A6D2-9048-435C-A1A2-4603429E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E29B4-5404-41F7-8752-BF7C29C0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7A6A-96BB-471E-9F0F-F4B8B74C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0245A-D98A-430A-8F99-38BD88B7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1BA55-04A9-4BF8-9BFC-D055D145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796206-4A65-4DAE-BD03-2DFD9EFE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0CDF8-DB50-4ECF-B72B-2F689966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E71683-2AB4-4788-8DB8-84C32AB4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1BB07-8149-446A-A9DE-1B2671D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4D05C-D042-409F-AF78-ADD8F1E4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C5C5B-1DE4-4A86-BC2D-7BA1AAB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D104CE-83D0-497E-BED5-6F39E0E5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16D75-A55E-431E-A503-B9121241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A830-B104-473D-B399-42CFB39B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6BB67-DEC5-4557-AB89-0203E301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76D06-A131-4DF9-BD78-077A0F28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BBB65E-05B8-4632-BFEC-1E712F55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996D54-9463-4462-9D4D-BE489CCA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19CDC-23AF-4D5B-B9B2-29936942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0AA93-0AFD-436E-BFCA-0C11FE68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33DF2-C42B-4491-ACC1-CAF9A792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4CD57-3550-4FC1-89BA-DB745D9F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6857C4-2BD4-4E2D-8D4C-4CCD416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91763-0E3F-4637-A40D-F9383F18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E491-2E5E-468F-AC51-CA8FB57B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E1E76-C8F1-4F50-B354-B2860F04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42619-BD62-450F-B1E3-2D7B7A5F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65969-1BAF-425B-91BB-3AED5F49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861B-AB51-476F-89C8-B4FA3638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A9B8-7E71-4AAD-A692-0C436D24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16C27-BFBC-4F33-9AA8-44DDCCAA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4925-E127-46CC-9A74-C471BD3A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19A-EC77-4E51-AFFA-20742C4C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B403-9AE0-4363-B429-4FC4FCD3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C321-219E-4B51-AAE6-72B827A7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10A9-4A46-438E-A313-45D1B96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F979-B934-4976-890D-4A70581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360C-90B4-4BB3-AF21-9454E43B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41E7-CD68-41F9-AA55-1ECE28B2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D638-890F-47FC-A430-8A41C18F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3CBE-82FF-4DCF-9496-C8D04D80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3A2F-45EB-4C55-9A55-4E0B551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9FE28-0F69-4C40-A07B-8B0E9D50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9B5-DE4D-4FE4-95AE-7CB1DB2A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D637-3CFD-4074-808A-9F06F103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F81A-5F2C-4FAD-B4F1-2A423B3D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1A70-E451-467B-8F92-A3B51ECC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B3FA-35F6-4B91-AEA9-0281966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73314-DD66-4CEA-A5B7-9C647F4C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26D7-DFCB-43D3-946F-F44E845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8D86-29E8-420A-9E30-E11E584B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B9348-DC3B-4F1B-A619-3ACBE3DE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3E58-1D9F-4986-BA0A-AF91C143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2EEB7-86B3-4743-B09A-4128DB25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305-03B6-4D6D-B904-E5E77AC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85242-D735-42A0-B9AD-B90EB79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A1DE6-A051-4646-8D30-34468749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8A09B-5A94-43AC-B5F4-25644901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0823F-3303-452C-80EF-D3A1101F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64D8-4567-46C6-BC6E-D0FF4133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84AA-66CD-4C37-ABC4-98083AE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316CA-EC6B-470C-B726-D9696C3C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EEAC-0790-4257-A431-484974CE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1332E-E104-4D68-921C-3EB90236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3585-7BE7-4D59-84FA-2EA0E488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705-CF26-427B-9B91-EC116798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8FA05-53D8-4A06-9B24-86C1AEF7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3BF64-C15C-44F2-8810-563A0D4C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07AEC-3C19-483C-952B-45AF6F1D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CEDED-9F16-42B5-9BD9-9D046261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991FE-7211-48D3-83FC-062AD399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E2989-A68C-40B4-88AC-C1F4BA2A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DBD73-7636-43BA-BA82-9352AF22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E526-D305-423B-9B1F-0A4E742D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5E3D8-86E4-4A2F-8CB2-3CA4004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C5A05-8249-4E1C-AEF0-0F65DB1B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928-7237-4075-913E-A532D5E4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3E646-5F29-47A9-B391-58721775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8883E-218C-4D61-905B-8F7A4F97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290B-FA1A-49D9-8AA5-4F8ADB9A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89B63-E0F8-48DD-9963-30EA284D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C9B01-B7BC-4A56-9FA6-6D3375F2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18E5B-A768-4845-BA46-4E77B224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E5C13-23E5-41F2-B57C-0E4A2FD7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99110-E16E-4F5B-9956-5C42A302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1E9BD-4618-4AA0-A83D-D8897027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B5A9-9170-4855-898D-A9F09158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E9B-21D5-4751-83D1-3F3D1F8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D2419-ABAC-4E84-A3EF-C940D900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05AF4-30E8-4C1F-8149-1E1B2BEF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49B3-ED32-4663-B4B7-1BB78E3A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B0E22-78BA-4CFD-B5B6-11C5672A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0B67-B213-423F-BCB9-D6B82B94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A7EF8-348E-4571-8C47-4C049D05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65E81-59A6-4C98-B953-E0F66E46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AF00A-4097-4A37-A68A-36702781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AD3F-B8B7-4392-A2CC-7C68BF7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C45D4-4116-4E21-AA21-8F78CDA3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87D-A062-48FD-84B4-BBECB710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CFAE1-E880-4827-AF7F-A085B895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D24BD-B138-4992-B09B-1120F10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03611-B0BC-44C9-B2F4-BC335F47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8C910-4C50-4D0E-8BF5-B2E7431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C8363-66DF-4DFC-91AC-1D901088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77EE5-DC58-4C40-A937-B4ACA834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1418F-12B6-479E-AD8C-7622A008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35D57-CCB9-48A4-AF6C-7F8D6092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843C3-1419-4977-BDA1-B1648FF6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3E56E-4929-4450-8AF6-4DE1D057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C496-B56D-46F3-899A-40D42EAD1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8D7D-DCCE-44D5-9C47-58F1FFDA2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98BC-7FB6-447F-9E54-9FC1581C3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41B3-C666-4137-B8D0-FF7B4FEF9A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323C-C19A-49AE-86A2-ADE9650F3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105D-92F2-4328-AF93-01AAF6F5B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1D8E-0DA8-4129-9B03-1A554EF657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0DB2-2005-4765-B0AE-E8FE93E6B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E28B-749C-4157-B890-ED62A87CCB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060D-138E-450A-8E6F-1A1FA34697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090A-3899-47C4-B960-06D2EA24FB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61F-33F2-46B0-97F8-3E00E09B8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360-A05D-4285-8D79-3991B0BBF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1BB4-E6F8-4F9D-97DF-7D07717B1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680B-8FEC-42E6-87BD-C9A0CE4C19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EA16-B4DA-4634-9B39-5A4CB75EB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292C-54E2-474D-B6C4-416E45912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090-C7E3-427C-BFA8-854C858839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9C8D-A7CF-426A-BCDF-46AEAFE4E0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340E-86F4-4BD0-8899-A338CA6FD7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89EE-021F-4A30-8047-CF0FE9DAC8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309D-73A6-47DC-B2E7-C05A940386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674C-6225-4594-9D0B-2F4775E022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1CE7-EF77-477F-9EDD-57F9811FE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945-9C0A-426C-BC25-55B21F9082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F5BA-58EE-4ED9-9E26-8FC8ED7A56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6AEC-0FA2-4DF2-B3E9-1E90051DF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FF91-7B80-4CB3-A2BB-B8CB9BE92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D98C-F1BE-4730-B27D-51F24522A6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398C-D995-4D37-B899-A21AF15CC0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D384-6AC9-4230-940B-665FA391A2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B1E-E816-46A4-A4A6-B62ACAE5FD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DB04-B87B-41B7-9C1E-0D793EF74D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DD2D-61CE-4A85-AFE2-9554EBDDAD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88C0-F87B-42E0-AD54-EAEE0FBB56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FC70-68C3-4875-8755-2EFCCE8CBC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D01B-F4F6-4CC6-AC05-85E3C52BBA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4C81-8FB9-4552-9977-6AD03CD48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9341-3DF4-45CB-B3AC-C62DD68057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F362-93B6-48F7-98EA-AD93BFBA8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43080" y="3086280"/>
            <a:ext cx="8458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38280" y="1709640"/>
            <a:ext cx="78674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1" descr=""/>
          <p:cNvPicPr/>
          <p:nvPr/>
        </p:nvPicPr>
        <p:blipFill>
          <a:blip r:embed="rId1"/>
          <a:stretch/>
        </p:blipFill>
        <p:spPr>
          <a:xfrm>
            <a:off x="162000" y="1576440"/>
            <a:ext cx="8820000" cy="37051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258920" y="35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1332000" y="2924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5"/>
          <a:stretch/>
        </p:blipFill>
        <p:spPr>
          <a:xfrm>
            <a:off x="1258920" y="234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6"/>
          <a:stretch/>
        </p:blipFill>
        <p:spPr>
          <a:xfrm>
            <a:off x="1303200" y="4076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9" name="图片 1" descr=""/>
          <p:cNvPicPr/>
          <p:nvPr/>
        </p:nvPicPr>
        <p:blipFill>
          <a:blip r:embed="rId1"/>
          <a:stretch/>
        </p:blipFill>
        <p:spPr>
          <a:xfrm>
            <a:off x="71280" y="1204920"/>
            <a:ext cx="8999640" cy="44481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66544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3"/>
          <a:stretch/>
        </p:blipFill>
        <p:spPr>
          <a:xfrm>
            <a:off x="1692360" y="4795920"/>
            <a:ext cx="4967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4" name="图片 1" descr=""/>
          <p:cNvPicPr/>
          <p:nvPr/>
        </p:nvPicPr>
        <p:blipFill>
          <a:blip r:embed="rId1"/>
          <a:stretch/>
        </p:blipFill>
        <p:spPr>
          <a:xfrm>
            <a:off x="438120" y="1590840"/>
            <a:ext cx="8267760" cy="36763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4680000" cy="449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1332000" y="4349880"/>
            <a:ext cx="5040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57240" y="774720"/>
            <a:ext cx="9029520" cy="601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258920" y="4508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404640" y="2014560"/>
            <a:ext cx="8332920" cy="28288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286480" cy="47145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428760" y="2009880"/>
            <a:ext cx="8286480" cy="28382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490680" y="1257480"/>
            <a:ext cx="8161200" cy="4343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1619280" y="32702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619280" y="38178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1619280" y="44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1547640" y="50277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914480" y="1380960"/>
            <a:ext cx="531504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71280" y="885960"/>
            <a:ext cx="8999640" cy="5379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2556000" y="22334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2627280" y="33861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2556000" y="39765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663480" y="1697040"/>
            <a:ext cx="8104320" cy="36561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2728800" y="17128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2627280" y="28670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9:51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